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907588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80680" y="4716000"/>
            <a:ext cx="5451480" cy="48992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254160" y="228600"/>
            <a:ext cx="6108480" cy="423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5"/>
          </p:nvPr>
        </p:nvSpPr>
        <p:spPr>
          <a:xfrm>
            <a:off x="6399360" y="9739080"/>
            <a:ext cx="218880" cy="1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31B408D-73CD-4D5D-A658-E3D18A5DAEE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54160" y="228600"/>
            <a:ext cx="6108480" cy="42307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80680" y="4716000"/>
            <a:ext cx="5451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ço Reservado para Número de Slide 3"/>
          <p:cNvSpPr/>
          <p:nvPr/>
        </p:nvSpPr>
        <p:spPr>
          <a:xfrm>
            <a:off x="6399360" y="9739440"/>
            <a:ext cx="2188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1DE2E19-6A38-48FC-A301-EC8A904C55FB}" type="slidenum">
              <a:rPr b="0" lang="pt-BR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5417-7EAD-4F50-9A3D-A69E2AC6B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A73C-AE5D-4155-B156-9D8D49B07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C013-D4FB-42C8-A141-EFD5E91F8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7186-C6F6-485A-AD94-0AAD8DFD2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56C34-A0E7-4E03-9663-9892455E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3A1CA-9BF4-4DF8-8B87-1D123426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D3B66-948A-4187-867B-FCFE409E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B60EC-4902-4D91-87E9-4B0447CD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54B46-D737-48DE-87D2-DEE0495C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3C952-8835-41AE-8E84-EFBDBDF7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05980-D0B0-419A-B8F2-903AC464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C08B-9091-465B-A8C9-5D5AC0AB4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EDA6C-0C7F-46AA-9073-C14B6D02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C47C9-7076-4A52-B75F-1BA62166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C32F3-0CA3-435B-A0FB-537613E6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D0D54-5372-40F5-B9ED-8977B938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6663C-EE2B-4D82-8D99-D8CDCC37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04D3-ACE2-4B0B-8B11-6579BDAAB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E3CE-2C9E-4C4B-A25C-D11F0E253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20DF-AA05-49D6-93D8-C42D5AABC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D976-9416-413E-953E-2FC75D1D1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5938-1F65-4FE6-9B62-A919AD756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355F-9744-4F1C-B24B-35BC25221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87B0-D493-4BDE-BD39-AA56FA4DE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M:\Seescoop\Base escolhida\base-slide-interno-sescoop-sem-logos.jpg"/>
          <p:cNvPicPr/>
          <p:nvPr/>
        </p:nvPicPr>
        <p:blipFill>
          <a:blip r:embed="rId2"/>
          <a:srcRect l="0" t="95071" r="0" b="0"/>
          <a:stretch/>
        </p:blipFill>
        <p:spPr>
          <a:xfrm>
            <a:off x="0" y="6519960"/>
            <a:ext cx="9906120" cy="338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9069120" y="6571800"/>
            <a:ext cx="538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9719-A34C-4D80-8E7C-1BC2F5846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M:\Seescoop\Base escolhida\base-slide-interno-sescoop-sem-logos.jpg"/>
          <p:cNvPicPr/>
          <p:nvPr/>
        </p:nvPicPr>
        <p:blipFill>
          <a:blip r:embed="rId3"/>
          <a:srcRect l="0" t="9528" r="0" b="87711"/>
          <a:stretch/>
        </p:blipFill>
        <p:spPr>
          <a:xfrm>
            <a:off x="0" y="843120"/>
            <a:ext cx="9906120" cy="206280"/>
          </a:xfrm>
          <a:prstGeom prst="rect">
            <a:avLst/>
          </a:prstGeom>
          <a:ln w="0">
            <a:noFill/>
          </a:ln>
        </p:spPr>
      </p:pic>
      <p:sp>
        <p:nvSpPr>
          <p:cNvPr id="3" name="CaixaDeTexto 8"/>
          <p:cNvSpPr/>
          <p:nvPr/>
        </p:nvSpPr>
        <p:spPr>
          <a:xfrm>
            <a:off x="1668600" y="127080"/>
            <a:ext cx="1842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595959"/>
                </a:solidFill>
                <a:latin typeface="Arial"/>
              </a:rPr>
              <a:t>BANCO INTERAMERICANO DE DESENVOLVI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79200" y="144360"/>
            <a:ext cx="158940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M:\Seescoop\Base escolhida\base-slide-interno-sescoop-sem-logos.jpg"/>
          <p:cNvPicPr/>
          <p:nvPr/>
        </p:nvPicPr>
        <p:blipFill>
          <a:blip r:embed="rId2"/>
          <a:srcRect l="0" t="95071" r="0" b="0"/>
          <a:stretch/>
        </p:blipFill>
        <p:spPr>
          <a:xfrm>
            <a:off x="0" y="6519960"/>
            <a:ext cx="9906120" cy="338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M:\Seescoop\Base escolhida\base-slide-interno-sescoop-sem-logos.jpg"/>
          <p:cNvPicPr/>
          <p:nvPr/>
        </p:nvPicPr>
        <p:blipFill>
          <a:blip r:embed="rId3"/>
          <a:srcRect l="0" t="9528" r="0" b="87711"/>
          <a:stretch/>
        </p:blipFill>
        <p:spPr>
          <a:xfrm>
            <a:off x="0" y="843120"/>
            <a:ext cx="9906120" cy="206280"/>
          </a:xfrm>
          <a:prstGeom prst="rect">
            <a:avLst/>
          </a:prstGeom>
          <a:ln w="0">
            <a:noFill/>
          </a:ln>
        </p:spPr>
      </p:pic>
      <p:sp>
        <p:nvSpPr>
          <p:cNvPr id="43" name="CaixaDeTexto 8"/>
          <p:cNvSpPr/>
          <p:nvPr/>
        </p:nvSpPr>
        <p:spPr>
          <a:xfrm>
            <a:off x="1668600" y="127080"/>
            <a:ext cx="1842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595959"/>
                </a:solidFill>
                <a:latin typeface="Arial"/>
              </a:rPr>
              <a:t>BANCO INTERAMERICANO DE DESENVOLVI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79200" y="144360"/>
            <a:ext cx="1589400" cy="56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9069120" y="6572160"/>
            <a:ext cx="538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F0B3-7E89-4141-BC2A-83290137E11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ço Reservado para Número de Slide 1"/>
          <p:cNvSpPr/>
          <p:nvPr/>
        </p:nvSpPr>
        <p:spPr>
          <a:xfrm>
            <a:off x="9069480" y="6572160"/>
            <a:ext cx="53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E34A-C717-4255-8451-5B1CF7E1F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ítulo 11"/>
          <p:cNvSpPr/>
          <p:nvPr/>
        </p:nvSpPr>
        <p:spPr>
          <a:xfrm>
            <a:off x="546120" y="1392120"/>
            <a:ext cx="868680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Resultado do Proje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f7f7f"/>
                </a:solidFill>
                <a:latin typeface="Arial"/>
              </a:rPr>
              <a:t>Apres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95959"/>
                </a:solidFill>
                <a:latin typeface="Arial"/>
              </a:rPr>
              <a:t>Prospecção e Avaliação Técnica de software aplicativo para suportar o processo de gestão dos programas de modernização (portafólio) e projetos (produtos) no âmbito do PROFISCO - COGE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José Carlos Gomes Torqu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ultor BID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1"/>
          <p:cNvSpPr/>
          <p:nvPr/>
        </p:nvSpPr>
        <p:spPr>
          <a:xfrm>
            <a:off x="9069480" y="6572160"/>
            <a:ext cx="53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9DA7-EE80-47EC-A81E-3C651DD0C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Principais Padrões de GP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208080" y="1041480"/>
            <a:ext cx="9615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oject Management Body of Knowledge  (PMBOK), PMI/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/ABNT 10006: 1997, Quality management - Guidelines to quality in proje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E2™: Projects IN a Controlled Environment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GC/Reino Un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''IPMA Competence Baseline'' (ICB), International Project Management Association, (ABG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ZOPP – ZielOrientierte ProjektPlanung (Planejamento de Projetos Orientado para Objetivos) – GTZ/ Aleman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BM – Results Based Management (Gestão de Projetos com Base em Resultados) – CIDA/Cana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dro Lógico (QL) - Agência Americana para o Desenvolvimento Internacional/United States Agency for International Development (USAID). Matriz de Planejamento de Projeto (MPP) ou Marco Ló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14"/>
          <p:cNvGrpSpPr/>
          <p:nvPr/>
        </p:nvGrpSpPr>
        <p:grpSpPr>
          <a:xfrm>
            <a:off x="2819520" y="2127240"/>
            <a:ext cx="4064040" cy="4114800"/>
            <a:chOff x="2819520" y="2127240"/>
            <a:chExt cx="4064040" cy="4114800"/>
          </a:xfrm>
        </p:grpSpPr>
        <p:sp>
          <p:nvSpPr>
            <p:cNvPr id="130" name="Rectangle 115"/>
            <p:cNvSpPr/>
            <p:nvPr/>
          </p:nvSpPr>
          <p:spPr>
            <a:xfrm>
              <a:off x="2819520" y="2127240"/>
              <a:ext cx="4064040" cy="41148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116"/>
            <p:cNvGrpSpPr/>
            <p:nvPr/>
          </p:nvGrpSpPr>
          <p:grpSpPr>
            <a:xfrm>
              <a:off x="3461040" y="4336920"/>
              <a:ext cx="569880" cy="176400"/>
              <a:chOff x="3461040" y="4336920"/>
              <a:chExt cx="569880" cy="176400"/>
            </a:xfrm>
          </p:grpSpPr>
          <p:grpSp>
            <p:nvGrpSpPr>
              <p:cNvPr id="132" name="Group 117"/>
              <p:cNvGrpSpPr/>
              <p:nvPr/>
            </p:nvGrpSpPr>
            <p:grpSpPr>
              <a:xfrm>
                <a:off x="3461040" y="4336920"/>
                <a:ext cx="558360" cy="74880"/>
                <a:chOff x="3461040" y="4336920"/>
                <a:chExt cx="558360" cy="74880"/>
              </a:xfrm>
            </p:grpSpPr>
            <p:sp>
              <p:nvSpPr>
                <p:cNvPr id="133" name="Freeform 118"/>
                <p:cNvSpPr/>
                <p:nvPr/>
              </p:nvSpPr>
              <p:spPr>
                <a:xfrm>
                  <a:off x="3461040" y="4336920"/>
                  <a:ext cx="279360" cy="7488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119"/>
                <p:cNvSpPr/>
                <p:nvPr/>
              </p:nvSpPr>
              <p:spPr>
                <a:xfrm>
                  <a:off x="3740400" y="4336920"/>
                  <a:ext cx="279000" cy="7488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120"/>
              <p:cNvGrpSpPr/>
              <p:nvPr/>
            </p:nvGrpSpPr>
            <p:grpSpPr>
              <a:xfrm>
                <a:off x="3461040" y="4387680"/>
                <a:ext cx="558360" cy="74880"/>
                <a:chOff x="3461040" y="4387680"/>
                <a:chExt cx="558360" cy="74880"/>
              </a:xfrm>
            </p:grpSpPr>
            <p:sp>
              <p:nvSpPr>
                <p:cNvPr id="136" name="Freeform 121"/>
                <p:cNvSpPr/>
                <p:nvPr/>
              </p:nvSpPr>
              <p:spPr>
                <a:xfrm>
                  <a:off x="3461040" y="4387680"/>
                  <a:ext cx="279360" cy="7488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122"/>
                <p:cNvSpPr/>
                <p:nvPr/>
              </p:nvSpPr>
              <p:spPr>
                <a:xfrm>
                  <a:off x="3740400" y="4387680"/>
                  <a:ext cx="279000" cy="7488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123"/>
              <p:cNvGrpSpPr/>
              <p:nvPr/>
            </p:nvGrpSpPr>
            <p:grpSpPr>
              <a:xfrm>
                <a:off x="3472560" y="4438800"/>
                <a:ext cx="558360" cy="74520"/>
                <a:chOff x="3472560" y="4438800"/>
                <a:chExt cx="558360" cy="74520"/>
              </a:xfrm>
            </p:grpSpPr>
            <p:sp>
              <p:nvSpPr>
                <p:cNvPr id="139" name="Freeform 124"/>
                <p:cNvSpPr/>
                <p:nvPr/>
              </p:nvSpPr>
              <p:spPr>
                <a:xfrm>
                  <a:off x="3472560" y="4438800"/>
                  <a:ext cx="279360" cy="7452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125"/>
                <p:cNvSpPr/>
                <p:nvPr/>
              </p:nvSpPr>
              <p:spPr>
                <a:xfrm>
                  <a:off x="3751920" y="4438800"/>
                  <a:ext cx="279000" cy="745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" name="Group 126"/>
            <p:cNvGrpSpPr/>
            <p:nvPr/>
          </p:nvGrpSpPr>
          <p:grpSpPr>
            <a:xfrm>
              <a:off x="5516640" y="4870440"/>
              <a:ext cx="510120" cy="177840"/>
              <a:chOff x="5516640" y="4870440"/>
              <a:chExt cx="510120" cy="177840"/>
            </a:xfrm>
          </p:grpSpPr>
          <p:grpSp>
            <p:nvGrpSpPr>
              <p:cNvPr id="142" name="Group 127"/>
              <p:cNvGrpSpPr/>
              <p:nvPr/>
            </p:nvGrpSpPr>
            <p:grpSpPr>
              <a:xfrm>
                <a:off x="5516640" y="4870440"/>
                <a:ext cx="498600" cy="74520"/>
                <a:chOff x="5516640" y="4870440"/>
                <a:chExt cx="498600" cy="74520"/>
              </a:xfrm>
            </p:grpSpPr>
            <p:sp>
              <p:nvSpPr>
                <p:cNvPr id="143" name="Freeform 128"/>
                <p:cNvSpPr/>
                <p:nvPr/>
              </p:nvSpPr>
              <p:spPr>
                <a:xfrm>
                  <a:off x="5516640" y="4870440"/>
                  <a:ext cx="249480" cy="7452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129"/>
                <p:cNvSpPr/>
                <p:nvPr/>
              </p:nvSpPr>
              <p:spPr>
                <a:xfrm>
                  <a:off x="5766120" y="4870440"/>
                  <a:ext cx="249120" cy="7452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130"/>
              <p:cNvGrpSpPr/>
              <p:nvPr/>
            </p:nvGrpSpPr>
            <p:grpSpPr>
              <a:xfrm>
                <a:off x="5516640" y="4921200"/>
                <a:ext cx="498600" cy="74520"/>
                <a:chOff x="5516640" y="4921200"/>
                <a:chExt cx="498600" cy="74520"/>
              </a:xfrm>
            </p:grpSpPr>
            <p:sp>
              <p:nvSpPr>
                <p:cNvPr id="146" name="Freeform 131"/>
                <p:cNvSpPr/>
                <p:nvPr/>
              </p:nvSpPr>
              <p:spPr>
                <a:xfrm>
                  <a:off x="5516640" y="4921200"/>
                  <a:ext cx="249480" cy="7452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132"/>
                <p:cNvSpPr/>
                <p:nvPr/>
              </p:nvSpPr>
              <p:spPr>
                <a:xfrm>
                  <a:off x="5766120" y="4921200"/>
                  <a:ext cx="249120" cy="7452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133"/>
              <p:cNvGrpSpPr/>
              <p:nvPr/>
            </p:nvGrpSpPr>
            <p:grpSpPr>
              <a:xfrm>
                <a:off x="5528160" y="4971960"/>
                <a:ext cx="498600" cy="76320"/>
                <a:chOff x="5528160" y="4971960"/>
                <a:chExt cx="498600" cy="76320"/>
              </a:xfrm>
            </p:grpSpPr>
            <p:sp>
              <p:nvSpPr>
                <p:cNvPr id="149" name="Freeform 134"/>
                <p:cNvSpPr/>
                <p:nvPr/>
              </p:nvSpPr>
              <p:spPr>
                <a:xfrm>
                  <a:off x="5528160" y="4971960"/>
                  <a:ext cx="249480" cy="7632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135"/>
                <p:cNvSpPr/>
                <p:nvPr/>
              </p:nvSpPr>
              <p:spPr>
                <a:xfrm>
                  <a:off x="5777640" y="4971960"/>
                  <a:ext cx="249120" cy="7632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" name="Group 136"/>
            <p:cNvGrpSpPr/>
            <p:nvPr/>
          </p:nvGrpSpPr>
          <p:grpSpPr>
            <a:xfrm>
              <a:off x="3104640" y="5708520"/>
              <a:ext cx="569880" cy="176400"/>
              <a:chOff x="3104640" y="5708520"/>
              <a:chExt cx="569880" cy="176400"/>
            </a:xfrm>
          </p:grpSpPr>
          <p:grpSp>
            <p:nvGrpSpPr>
              <p:cNvPr id="152" name="Group 137"/>
              <p:cNvGrpSpPr/>
              <p:nvPr/>
            </p:nvGrpSpPr>
            <p:grpSpPr>
              <a:xfrm>
                <a:off x="3104640" y="5708520"/>
                <a:ext cx="558360" cy="74880"/>
                <a:chOff x="3104640" y="5708520"/>
                <a:chExt cx="558360" cy="74880"/>
              </a:xfrm>
            </p:grpSpPr>
            <p:sp>
              <p:nvSpPr>
                <p:cNvPr id="153" name="Freeform 138"/>
                <p:cNvSpPr/>
                <p:nvPr/>
              </p:nvSpPr>
              <p:spPr>
                <a:xfrm>
                  <a:off x="3104640" y="5708520"/>
                  <a:ext cx="279360" cy="7488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139"/>
                <p:cNvSpPr/>
                <p:nvPr/>
              </p:nvSpPr>
              <p:spPr>
                <a:xfrm>
                  <a:off x="3384000" y="5708520"/>
                  <a:ext cx="279000" cy="7488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140"/>
              <p:cNvGrpSpPr/>
              <p:nvPr/>
            </p:nvGrpSpPr>
            <p:grpSpPr>
              <a:xfrm>
                <a:off x="3104640" y="5759280"/>
                <a:ext cx="558360" cy="74880"/>
                <a:chOff x="3104640" y="5759280"/>
                <a:chExt cx="558360" cy="74880"/>
              </a:xfrm>
            </p:grpSpPr>
            <p:sp>
              <p:nvSpPr>
                <p:cNvPr id="156" name="Freeform 141"/>
                <p:cNvSpPr/>
                <p:nvPr/>
              </p:nvSpPr>
              <p:spPr>
                <a:xfrm>
                  <a:off x="3104640" y="5759280"/>
                  <a:ext cx="279360" cy="7488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142"/>
                <p:cNvSpPr/>
                <p:nvPr/>
              </p:nvSpPr>
              <p:spPr>
                <a:xfrm>
                  <a:off x="3384000" y="5759280"/>
                  <a:ext cx="279000" cy="7488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143"/>
              <p:cNvGrpSpPr/>
              <p:nvPr/>
            </p:nvGrpSpPr>
            <p:grpSpPr>
              <a:xfrm>
                <a:off x="3116160" y="5810400"/>
                <a:ext cx="558360" cy="74520"/>
                <a:chOff x="3116160" y="5810400"/>
                <a:chExt cx="558360" cy="74520"/>
              </a:xfrm>
            </p:grpSpPr>
            <p:sp>
              <p:nvSpPr>
                <p:cNvPr id="159" name="Freeform 144"/>
                <p:cNvSpPr/>
                <p:nvPr/>
              </p:nvSpPr>
              <p:spPr>
                <a:xfrm>
                  <a:off x="3116160" y="5810400"/>
                  <a:ext cx="279360" cy="7452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145"/>
                <p:cNvSpPr/>
                <p:nvPr/>
              </p:nvSpPr>
              <p:spPr>
                <a:xfrm>
                  <a:off x="3395520" y="5810400"/>
                  <a:ext cx="279000" cy="745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1" name="Group 146"/>
            <p:cNvGrpSpPr/>
            <p:nvPr/>
          </p:nvGrpSpPr>
          <p:grpSpPr>
            <a:xfrm>
              <a:off x="3033360" y="2584440"/>
              <a:ext cx="569880" cy="175680"/>
              <a:chOff x="3033360" y="2584440"/>
              <a:chExt cx="569880" cy="175680"/>
            </a:xfrm>
          </p:grpSpPr>
          <p:grpSp>
            <p:nvGrpSpPr>
              <p:cNvPr id="162" name="Group 147"/>
              <p:cNvGrpSpPr/>
              <p:nvPr/>
            </p:nvGrpSpPr>
            <p:grpSpPr>
              <a:xfrm>
                <a:off x="3033360" y="2584440"/>
                <a:ext cx="558360" cy="74520"/>
                <a:chOff x="3033360" y="2584440"/>
                <a:chExt cx="558360" cy="74520"/>
              </a:xfrm>
            </p:grpSpPr>
            <p:sp>
              <p:nvSpPr>
                <p:cNvPr id="163" name="Freeform 148"/>
                <p:cNvSpPr/>
                <p:nvPr/>
              </p:nvSpPr>
              <p:spPr>
                <a:xfrm>
                  <a:off x="3033360" y="2584440"/>
                  <a:ext cx="279360" cy="7452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9"/>
                <p:cNvSpPr/>
                <p:nvPr/>
              </p:nvSpPr>
              <p:spPr>
                <a:xfrm>
                  <a:off x="3312720" y="2584440"/>
                  <a:ext cx="279000" cy="745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150"/>
              <p:cNvGrpSpPr/>
              <p:nvPr/>
            </p:nvGrpSpPr>
            <p:grpSpPr>
              <a:xfrm>
                <a:off x="3033360" y="2634840"/>
                <a:ext cx="558360" cy="74520"/>
                <a:chOff x="3033360" y="2634840"/>
                <a:chExt cx="558360" cy="74520"/>
              </a:xfrm>
            </p:grpSpPr>
            <p:sp>
              <p:nvSpPr>
                <p:cNvPr id="166" name="Freeform 151"/>
                <p:cNvSpPr/>
                <p:nvPr/>
              </p:nvSpPr>
              <p:spPr>
                <a:xfrm>
                  <a:off x="3033360" y="2634840"/>
                  <a:ext cx="279360" cy="7452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152"/>
                <p:cNvSpPr/>
                <p:nvPr/>
              </p:nvSpPr>
              <p:spPr>
                <a:xfrm>
                  <a:off x="3312720" y="2634840"/>
                  <a:ext cx="279000" cy="745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153"/>
              <p:cNvGrpSpPr/>
              <p:nvPr/>
            </p:nvGrpSpPr>
            <p:grpSpPr>
              <a:xfrm>
                <a:off x="3044880" y="2685960"/>
                <a:ext cx="558360" cy="74160"/>
                <a:chOff x="3044880" y="2685960"/>
                <a:chExt cx="558360" cy="74160"/>
              </a:xfrm>
            </p:grpSpPr>
            <p:sp>
              <p:nvSpPr>
                <p:cNvPr id="169" name="Freeform 154"/>
                <p:cNvSpPr/>
                <p:nvPr/>
              </p:nvSpPr>
              <p:spPr>
                <a:xfrm>
                  <a:off x="3044880" y="2685960"/>
                  <a:ext cx="279360" cy="7416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155"/>
                <p:cNvSpPr/>
                <p:nvPr/>
              </p:nvSpPr>
              <p:spPr>
                <a:xfrm>
                  <a:off x="3324240" y="2685960"/>
                  <a:ext cx="279000" cy="7416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" name="Group 156"/>
            <p:cNvGrpSpPr/>
            <p:nvPr/>
          </p:nvGrpSpPr>
          <p:grpSpPr>
            <a:xfrm>
              <a:off x="6170400" y="2584440"/>
              <a:ext cx="569880" cy="175680"/>
              <a:chOff x="6170400" y="2584440"/>
              <a:chExt cx="569880" cy="175680"/>
            </a:xfrm>
          </p:grpSpPr>
          <p:grpSp>
            <p:nvGrpSpPr>
              <p:cNvPr id="172" name="Group 157"/>
              <p:cNvGrpSpPr/>
              <p:nvPr/>
            </p:nvGrpSpPr>
            <p:grpSpPr>
              <a:xfrm>
                <a:off x="6170400" y="2584440"/>
                <a:ext cx="558360" cy="74520"/>
                <a:chOff x="6170400" y="2584440"/>
                <a:chExt cx="558360" cy="74520"/>
              </a:xfrm>
            </p:grpSpPr>
            <p:sp>
              <p:nvSpPr>
                <p:cNvPr id="173" name="Freeform 158"/>
                <p:cNvSpPr/>
                <p:nvPr/>
              </p:nvSpPr>
              <p:spPr>
                <a:xfrm>
                  <a:off x="6170400" y="2584440"/>
                  <a:ext cx="279360" cy="7452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159"/>
                <p:cNvSpPr/>
                <p:nvPr/>
              </p:nvSpPr>
              <p:spPr>
                <a:xfrm>
                  <a:off x="6449760" y="2584440"/>
                  <a:ext cx="279000" cy="745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160"/>
              <p:cNvGrpSpPr/>
              <p:nvPr/>
            </p:nvGrpSpPr>
            <p:grpSpPr>
              <a:xfrm>
                <a:off x="6170400" y="2634840"/>
                <a:ext cx="558360" cy="74520"/>
                <a:chOff x="6170400" y="2634840"/>
                <a:chExt cx="558360" cy="74520"/>
              </a:xfrm>
            </p:grpSpPr>
            <p:sp>
              <p:nvSpPr>
                <p:cNvPr id="176" name="Freeform 161"/>
                <p:cNvSpPr/>
                <p:nvPr/>
              </p:nvSpPr>
              <p:spPr>
                <a:xfrm>
                  <a:off x="6170400" y="2634840"/>
                  <a:ext cx="279360" cy="7452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162"/>
                <p:cNvSpPr/>
                <p:nvPr/>
              </p:nvSpPr>
              <p:spPr>
                <a:xfrm>
                  <a:off x="6449760" y="2634840"/>
                  <a:ext cx="279000" cy="745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163"/>
              <p:cNvGrpSpPr/>
              <p:nvPr/>
            </p:nvGrpSpPr>
            <p:grpSpPr>
              <a:xfrm>
                <a:off x="6181920" y="2685960"/>
                <a:ext cx="558360" cy="74160"/>
                <a:chOff x="6181920" y="2685960"/>
                <a:chExt cx="558360" cy="74160"/>
              </a:xfrm>
            </p:grpSpPr>
            <p:sp>
              <p:nvSpPr>
                <p:cNvPr id="179" name="Freeform 164"/>
                <p:cNvSpPr/>
                <p:nvPr/>
              </p:nvSpPr>
              <p:spPr>
                <a:xfrm>
                  <a:off x="6181920" y="2685960"/>
                  <a:ext cx="279360" cy="7416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165"/>
                <p:cNvSpPr/>
                <p:nvPr/>
              </p:nvSpPr>
              <p:spPr>
                <a:xfrm>
                  <a:off x="6461280" y="2685960"/>
                  <a:ext cx="279000" cy="7416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Group 166"/>
            <p:cNvGrpSpPr/>
            <p:nvPr/>
          </p:nvGrpSpPr>
          <p:grpSpPr>
            <a:xfrm>
              <a:off x="6099120" y="5708520"/>
              <a:ext cx="569880" cy="176400"/>
              <a:chOff x="6099120" y="5708520"/>
              <a:chExt cx="569880" cy="176400"/>
            </a:xfrm>
          </p:grpSpPr>
          <p:grpSp>
            <p:nvGrpSpPr>
              <p:cNvPr id="182" name="Group 167"/>
              <p:cNvGrpSpPr/>
              <p:nvPr/>
            </p:nvGrpSpPr>
            <p:grpSpPr>
              <a:xfrm>
                <a:off x="6099120" y="5708520"/>
                <a:ext cx="558360" cy="74880"/>
                <a:chOff x="6099120" y="5708520"/>
                <a:chExt cx="558360" cy="74880"/>
              </a:xfrm>
            </p:grpSpPr>
            <p:sp>
              <p:nvSpPr>
                <p:cNvPr id="183" name="Freeform 168"/>
                <p:cNvSpPr/>
                <p:nvPr/>
              </p:nvSpPr>
              <p:spPr>
                <a:xfrm>
                  <a:off x="6099120" y="5708520"/>
                  <a:ext cx="279360" cy="7488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69"/>
                <p:cNvSpPr/>
                <p:nvPr/>
              </p:nvSpPr>
              <p:spPr>
                <a:xfrm>
                  <a:off x="6378480" y="5708520"/>
                  <a:ext cx="279000" cy="7488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170"/>
              <p:cNvGrpSpPr/>
              <p:nvPr/>
            </p:nvGrpSpPr>
            <p:grpSpPr>
              <a:xfrm>
                <a:off x="6099120" y="5759280"/>
                <a:ext cx="558360" cy="74880"/>
                <a:chOff x="6099120" y="5759280"/>
                <a:chExt cx="558360" cy="74880"/>
              </a:xfrm>
            </p:grpSpPr>
            <p:sp>
              <p:nvSpPr>
                <p:cNvPr id="186" name="Freeform 171"/>
                <p:cNvSpPr/>
                <p:nvPr/>
              </p:nvSpPr>
              <p:spPr>
                <a:xfrm>
                  <a:off x="6099120" y="5759280"/>
                  <a:ext cx="279360" cy="7488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72"/>
                <p:cNvSpPr/>
                <p:nvPr/>
              </p:nvSpPr>
              <p:spPr>
                <a:xfrm>
                  <a:off x="6378480" y="5759280"/>
                  <a:ext cx="279000" cy="7488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Group 173"/>
              <p:cNvGrpSpPr/>
              <p:nvPr/>
            </p:nvGrpSpPr>
            <p:grpSpPr>
              <a:xfrm>
                <a:off x="6110640" y="5810400"/>
                <a:ext cx="558360" cy="74520"/>
                <a:chOff x="6110640" y="5810400"/>
                <a:chExt cx="558360" cy="74520"/>
              </a:xfrm>
            </p:grpSpPr>
            <p:sp>
              <p:nvSpPr>
                <p:cNvPr id="189" name="Freeform 174"/>
                <p:cNvSpPr/>
                <p:nvPr/>
              </p:nvSpPr>
              <p:spPr>
                <a:xfrm>
                  <a:off x="6110640" y="5810400"/>
                  <a:ext cx="279360" cy="7452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75"/>
                <p:cNvSpPr/>
                <p:nvPr/>
              </p:nvSpPr>
              <p:spPr>
                <a:xfrm>
                  <a:off x="6390000" y="5810400"/>
                  <a:ext cx="279000" cy="745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40" h="48">
                      <a:moveTo>
                        <a:pt x="0" y="48"/>
                      </a:moveTo>
                      <a:cubicBezTo>
                        <a:pt x="28" y="24"/>
                        <a:pt x="56" y="0"/>
                        <a:pt x="96" y="0"/>
                      </a:cubicBezTo>
                      <a:cubicBezTo>
                        <a:pt x="136" y="0"/>
                        <a:pt x="216" y="40"/>
                        <a:pt x="240" y="48"/>
                      </a:cubicBezTo>
                    </a:path>
                  </a:pathLst>
                </a:custGeom>
                <a:noFill/>
                <a:ln w="93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1" name="Group 176"/>
          <p:cNvGrpSpPr/>
          <p:nvPr/>
        </p:nvGrpSpPr>
        <p:grpSpPr>
          <a:xfrm>
            <a:off x="666720" y="2330280"/>
            <a:ext cx="5924520" cy="3657600"/>
            <a:chOff x="666720" y="2330280"/>
            <a:chExt cx="5924520" cy="3657600"/>
          </a:xfrm>
        </p:grpSpPr>
        <p:grpSp>
          <p:nvGrpSpPr>
            <p:cNvPr id="192" name="Group 177"/>
            <p:cNvGrpSpPr/>
            <p:nvPr/>
          </p:nvGrpSpPr>
          <p:grpSpPr>
            <a:xfrm>
              <a:off x="4330800" y="4489200"/>
              <a:ext cx="919080" cy="1218960"/>
              <a:chOff x="4330800" y="4489200"/>
              <a:chExt cx="919080" cy="1218960"/>
            </a:xfrm>
          </p:grpSpPr>
          <p:pic>
            <p:nvPicPr>
              <p:cNvPr id="193" name="Object 178" descr=""/>
              <p:cNvPicPr/>
              <p:nvPr/>
            </p:nvPicPr>
            <p:blipFill>
              <a:blip r:embed="rId1"/>
              <a:stretch/>
            </p:blipFill>
            <p:spPr>
              <a:xfrm>
                <a:off x="4330800" y="4489200"/>
                <a:ext cx="363240" cy="38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Object 179" descr=""/>
              <p:cNvPicPr/>
              <p:nvPr/>
            </p:nvPicPr>
            <p:blipFill>
              <a:blip r:embed="rId2"/>
              <a:stretch/>
            </p:blipFill>
            <p:spPr>
              <a:xfrm>
                <a:off x="4352760" y="4870080"/>
                <a:ext cx="363600" cy="38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Object 180" descr=""/>
              <p:cNvPicPr/>
              <p:nvPr/>
            </p:nvPicPr>
            <p:blipFill>
              <a:blip r:embed="rId3"/>
              <a:stretch/>
            </p:blipFill>
            <p:spPr>
              <a:xfrm>
                <a:off x="4886280" y="4870080"/>
                <a:ext cx="363600" cy="38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Object 181" descr=""/>
              <p:cNvPicPr/>
              <p:nvPr/>
            </p:nvPicPr>
            <p:blipFill>
              <a:blip r:embed="rId4"/>
              <a:stretch/>
            </p:blipFill>
            <p:spPr>
              <a:xfrm>
                <a:off x="4559400" y="5327280"/>
                <a:ext cx="363240" cy="38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Object 182" descr=""/>
              <p:cNvPicPr/>
              <p:nvPr/>
            </p:nvPicPr>
            <p:blipFill>
              <a:blip r:embed="rId5"/>
              <a:stretch/>
            </p:blipFill>
            <p:spPr>
              <a:xfrm>
                <a:off x="4869000" y="4489200"/>
                <a:ext cx="363240" cy="380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8" name="Group 183"/>
            <p:cNvGrpSpPr/>
            <p:nvPr/>
          </p:nvGrpSpPr>
          <p:grpSpPr>
            <a:xfrm>
              <a:off x="3564000" y="2889000"/>
              <a:ext cx="919080" cy="1218960"/>
              <a:chOff x="3564000" y="2889000"/>
              <a:chExt cx="919080" cy="1218960"/>
            </a:xfrm>
          </p:grpSpPr>
          <p:pic>
            <p:nvPicPr>
              <p:cNvPr id="199" name="Object 184" descr=""/>
              <p:cNvPicPr/>
              <p:nvPr/>
            </p:nvPicPr>
            <p:blipFill>
              <a:blip r:embed="rId6"/>
              <a:stretch/>
            </p:blipFill>
            <p:spPr>
              <a:xfrm>
                <a:off x="3564000" y="2889000"/>
                <a:ext cx="363600" cy="38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Object 185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6320" y="3269880"/>
                <a:ext cx="363240" cy="38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Object 186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9480" y="3269880"/>
                <a:ext cx="363600" cy="38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Object 187" descr=""/>
              <p:cNvPicPr/>
              <p:nvPr/>
            </p:nvPicPr>
            <p:blipFill>
              <a:blip r:embed="rId9"/>
              <a:stretch/>
            </p:blipFill>
            <p:spPr>
              <a:xfrm>
                <a:off x="3890880" y="3727080"/>
                <a:ext cx="363600" cy="38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Object 188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02200" y="2889000"/>
                <a:ext cx="363240" cy="380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4" name="Oval 189"/>
            <p:cNvSpPr/>
            <p:nvPr/>
          </p:nvSpPr>
          <p:spPr>
            <a:xfrm>
              <a:off x="3085920" y="2330280"/>
              <a:ext cx="3505320" cy="365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90"/>
            <p:cNvSpPr/>
            <p:nvPr/>
          </p:nvSpPr>
          <p:spPr>
            <a:xfrm>
              <a:off x="666720" y="2774880"/>
              <a:ext cx="1825560" cy="838080"/>
            </a:xfrm>
            <a:prstGeom prst="borderCallout2">
              <a:avLst>
                <a:gd name="adj1" fmla="val 18750"/>
                <a:gd name="adj2" fmla="val -8333"/>
                <a:gd name="adj3" fmla="val 13634"/>
                <a:gd name="adj4" fmla="val 119305"/>
                <a:gd name="adj5" fmla="val 114203"/>
                <a:gd name="adj6" fmla="val 134523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ahoma"/>
                </a:rPr>
                <a:t>Ger.</a:t>
              </a:r>
              <a:r>
                <a:rPr b="0" lang="pt-BR" sz="16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ahoma"/>
                </a:rPr>
                <a:t>Portfol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Define Curso d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Ação e Estraté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91"/>
          <p:cNvGrpSpPr/>
          <p:nvPr/>
        </p:nvGrpSpPr>
        <p:grpSpPr>
          <a:xfrm>
            <a:off x="5262480" y="3727440"/>
            <a:ext cx="3895920" cy="984240"/>
            <a:chOff x="5262480" y="3727440"/>
            <a:chExt cx="3895920" cy="984240"/>
          </a:xfrm>
        </p:grpSpPr>
        <p:pic>
          <p:nvPicPr>
            <p:cNvPr id="207" name="Object 192" descr=""/>
            <p:cNvPicPr/>
            <p:nvPr/>
          </p:nvPicPr>
          <p:blipFill>
            <a:blip r:embed="rId11"/>
            <a:stretch/>
          </p:blipFill>
          <p:spPr>
            <a:xfrm>
              <a:off x="5262480" y="3727440"/>
              <a:ext cx="3636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AutoShape 193"/>
            <p:cNvSpPr/>
            <p:nvPr/>
          </p:nvSpPr>
          <p:spPr>
            <a:xfrm>
              <a:off x="7221600" y="4097520"/>
              <a:ext cx="1936800" cy="614160"/>
            </a:xfrm>
            <a:prstGeom prst="borderCallout2">
              <a:avLst>
                <a:gd name="adj1" fmla="val 18750"/>
                <a:gd name="adj2" fmla="val -8333"/>
                <a:gd name="adj3" fmla="val 18606"/>
                <a:gd name="adj4" fmla="val -42606"/>
                <a:gd name="adj5" fmla="val -3875"/>
                <a:gd name="adj6" fmla="val -83023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5400" indent="-954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ff"/>
                  </a:solidFill>
                  <a:latin typeface="Tahoma"/>
                </a:rPr>
                <a:t>G</a:t>
              </a:r>
              <a:r>
                <a:rPr b="0" lang="en-US" sz="1600" spc="-1" strike="noStrike">
                  <a:solidFill>
                    <a:srgbClr val="0000ff"/>
                  </a:solidFill>
                  <a:latin typeface="Tahoma"/>
                </a:rPr>
                <a:t>er. </a:t>
              </a:r>
              <a:r>
                <a:rPr b="0" lang="pt-BR" sz="1600" spc="-1" strike="noStrike">
                  <a:solidFill>
                    <a:srgbClr val="0000ff"/>
                  </a:solidFill>
                  <a:latin typeface="Tahoma"/>
                </a:rPr>
                <a:t>Proje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Entrega de Produ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94"/>
          <p:cNvGrpSpPr/>
          <p:nvPr/>
        </p:nvGrpSpPr>
        <p:grpSpPr>
          <a:xfrm>
            <a:off x="4749840" y="1835280"/>
            <a:ext cx="4513320" cy="2603520"/>
            <a:chOff x="4749840" y="1835280"/>
            <a:chExt cx="4513320" cy="2603520"/>
          </a:xfrm>
        </p:grpSpPr>
        <p:grpSp>
          <p:nvGrpSpPr>
            <p:cNvPr id="210" name="Group 195"/>
            <p:cNvGrpSpPr/>
            <p:nvPr/>
          </p:nvGrpSpPr>
          <p:grpSpPr>
            <a:xfrm>
              <a:off x="5033880" y="2889360"/>
              <a:ext cx="919080" cy="761760"/>
              <a:chOff x="5033880" y="2889360"/>
              <a:chExt cx="919080" cy="761760"/>
            </a:xfrm>
          </p:grpSpPr>
          <p:pic>
            <p:nvPicPr>
              <p:cNvPr id="211" name="Object 19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33880" y="2889360"/>
                <a:ext cx="363600" cy="38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Object 1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56200" y="3270240"/>
                <a:ext cx="363600" cy="38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Object 198" descr=""/>
              <p:cNvPicPr/>
              <p:nvPr/>
            </p:nvPicPr>
            <p:blipFill>
              <a:blip r:embed="rId14"/>
              <a:stretch/>
            </p:blipFill>
            <p:spPr>
              <a:xfrm>
                <a:off x="5589720" y="3270240"/>
                <a:ext cx="363240" cy="38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Object 199" descr=""/>
              <p:cNvPicPr/>
              <p:nvPr/>
            </p:nvPicPr>
            <p:blipFill>
              <a:blip r:embed="rId15"/>
              <a:stretch/>
            </p:blipFill>
            <p:spPr>
              <a:xfrm>
                <a:off x="5572080" y="2889360"/>
                <a:ext cx="363600" cy="380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Oval 200"/>
            <p:cNvSpPr/>
            <p:nvPr/>
          </p:nvSpPr>
          <p:spPr>
            <a:xfrm>
              <a:off x="4749840" y="2610000"/>
              <a:ext cx="1447920" cy="1828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01"/>
            <p:cNvSpPr/>
            <p:nvPr/>
          </p:nvSpPr>
          <p:spPr>
            <a:xfrm>
              <a:off x="7246800" y="1835280"/>
              <a:ext cx="2016360" cy="812880"/>
            </a:xfrm>
            <a:prstGeom prst="borderCallout2">
              <a:avLst>
                <a:gd name="adj1" fmla="val 18750"/>
                <a:gd name="adj2" fmla="val -8333"/>
                <a:gd name="adj3" fmla="val 14064"/>
                <a:gd name="adj4" fmla="val -20708"/>
                <a:gd name="adj5" fmla="val 171092"/>
                <a:gd name="adj6" fmla="val -5377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ff"/>
                  </a:solidFill>
                  <a:latin typeface="Tahoma"/>
                </a:rPr>
                <a:t>G</a:t>
              </a:r>
              <a:r>
                <a:rPr b="0" lang="en-US" sz="1600" spc="-1" strike="noStrike">
                  <a:solidFill>
                    <a:srgbClr val="0000ff"/>
                  </a:solidFill>
                  <a:latin typeface="Tahoma"/>
                </a:rPr>
                <a:t>er. </a:t>
              </a:r>
              <a:r>
                <a:rPr b="0" lang="pt-BR" sz="1600" spc="-1" strike="noStrike">
                  <a:solidFill>
                    <a:srgbClr val="0000ff"/>
                  </a:solidFill>
                  <a:latin typeface="Tahoma"/>
                </a:rPr>
                <a:t>Progra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Coordena Múltiplos Projetos (Benefíc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Conceitos Básicos de GP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95"/>
          <p:cNvSpPr/>
          <p:nvPr/>
        </p:nvSpPr>
        <p:spPr>
          <a:xfrm>
            <a:off x="318960" y="10335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tfólio, Programas e Pro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7368120" y="6132600"/>
            <a:ext cx="2475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ahoma"/>
              </a:rPr>
              <a:t>Fonte: PMI – Project Management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3"/>
          <p:cNvGrpSpPr/>
          <p:nvPr/>
        </p:nvGrpSpPr>
        <p:grpSpPr>
          <a:xfrm>
            <a:off x="3611160" y="2406600"/>
            <a:ext cx="2962440" cy="982800"/>
            <a:chOff x="3611160" y="2406600"/>
            <a:chExt cx="2962440" cy="982800"/>
          </a:xfrm>
        </p:grpSpPr>
        <p:grpSp>
          <p:nvGrpSpPr>
            <p:cNvPr id="221" name="Group 4"/>
            <p:cNvGrpSpPr/>
            <p:nvPr/>
          </p:nvGrpSpPr>
          <p:grpSpPr>
            <a:xfrm>
              <a:off x="3611160" y="2406600"/>
              <a:ext cx="2962440" cy="790560"/>
              <a:chOff x="3611160" y="2406600"/>
              <a:chExt cx="2962440" cy="790560"/>
            </a:xfrm>
          </p:grpSpPr>
          <p:sp>
            <p:nvSpPr>
              <p:cNvPr id="222" name="AutoShape 5"/>
              <p:cNvSpPr/>
              <p:nvPr/>
            </p:nvSpPr>
            <p:spPr>
              <a:xfrm rot="10800000">
                <a:off x="3611160" y="2406600"/>
                <a:ext cx="2962440" cy="790560"/>
              </a:xfrm>
              <a:custGeom>
                <a:avLst/>
                <a:gdLst>
                  <a:gd name="textAreaLeft" fmla="*/ 550440 w 2962440"/>
                  <a:gd name="textAreaRight" fmla="*/ 2412000 w 2962440"/>
                  <a:gd name="textAreaTop" fmla="*/ 147600 h 790560"/>
                  <a:gd name="textAreaBottom" fmla="*/ 642960 h 79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438" y="21600"/>
                    </a:lnTo>
                    <a:lnTo>
                      <a:pt x="1716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6"/>
              <p:cNvSpPr/>
              <p:nvPr/>
            </p:nvSpPr>
            <p:spPr>
              <a:xfrm>
                <a:off x="3720960" y="2536920"/>
                <a:ext cx="273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Objetivos Estratégicos e Governança Corporativ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Line 7"/>
            <p:cNvSpPr/>
            <p:nvPr/>
          </p:nvSpPr>
          <p:spPr>
            <a:xfrm>
              <a:off x="4441320" y="3003480"/>
              <a:ext cx="0" cy="385920"/>
            </a:xfrm>
            <a:prstGeom prst="line">
              <a:avLst/>
            </a:prstGeom>
            <a:ln w="31680">
              <a:solidFill>
                <a:srgbClr val="76b2e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>
              <a:off x="5796720" y="2998800"/>
              <a:ext cx="0" cy="385920"/>
            </a:xfrm>
            <a:prstGeom prst="line">
              <a:avLst/>
            </a:prstGeom>
            <a:ln w="31680">
              <a:solidFill>
                <a:srgbClr val="76b2e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9"/>
          <p:cNvGrpSpPr/>
          <p:nvPr/>
        </p:nvGrpSpPr>
        <p:grpSpPr>
          <a:xfrm>
            <a:off x="2600640" y="1344600"/>
            <a:ext cx="1007280" cy="1801800"/>
            <a:chOff x="2600640" y="1344600"/>
            <a:chExt cx="1007280" cy="1801800"/>
          </a:xfrm>
        </p:grpSpPr>
        <p:sp>
          <p:nvSpPr>
            <p:cNvPr id="227" name="Text Box 10"/>
            <p:cNvSpPr/>
            <p:nvPr/>
          </p:nvSpPr>
          <p:spPr>
            <a:xfrm>
              <a:off x="2600640" y="2106720"/>
              <a:ext cx="89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200" spc="-1" strike="noStrike">
                  <a:solidFill>
                    <a:srgbClr val="000000"/>
                  </a:solidFill>
                  <a:latin typeface="Times New Roman"/>
                </a:rPr>
                <a:t>Ni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200" spc="-1" strike="noStrike">
                  <a:solidFill>
                    <a:srgbClr val="000000"/>
                  </a:solidFill>
                  <a:latin typeface="Times New Roman"/>
                </a:rPr>
                <a:t>Estraté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1"/>
            <p:cNvSpPr/>
            <p:nvPr/>
          </p:nvSpPr>
          <p:spPr>
            <a:xfrm>
              <a:off x="3476520" y="1344600"/>
              <a:ext cx="131400" cy="1801800"/>
            </a:xfrm>
            <a:custGeom>
              <a:avLst/>
              <a:gdLst>
                <a:gd name="textAreaLeft" fmla="*/ 83880 w 131400"/>
                <a:gd name="textAreaRight" fmla="*/ 131760 w 131400"/>
                <a:gd name="textAreaTop" fmla="*/ 46800 h 1801800"/>
                <a:gd name="textAreaBottom" fmla="*/ 1755000 h 18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2"/>
          <p:cNvGrpSpPr/>
          <p:nvPr/>
        </p:nvGrpSpPr>
        <p:grpSpPr>
          <a:xfrm>
            <a:off x="1078560" y="4176720"/>
            <a:ext cx="7079760" cy="1771200"/>
            <a:chOff x="1078560" y="4176720"/>
            <a:chExt cx="7079760" cy="1771200"/>
          </a:xfrm>
        </p:grpSpPr>
        <p:grpSp>
          <p:nvGrpSpPr>
            <p:cNvPr id="230" name="Group 13"/>
            <p:cNvGrpSpPr/>
            <p:nvPr/>
          </p:nvGrpSpPr>
          <p:grpSpPr>
            <a:xfrm>
              <a:off x="2036880" y="5229000"/>
              <a:ext cx="6121440" cy="718920"/>
              <a:chOff x="2036880" y="5229000"/>
              <a:chExt cx="6121440" cy="718920"/>
            </a:xfrm>
          </p:grpSpPr>
          <p:sp>
            <p:nvSpPr>
              <p:cNvPr id="231" name="Rectangle 14"/>
              <p:cNvSpPr/>
              <p:nvPr/>
            </p:nvSpPr>
            <p:spPr>
              <a:xfrm>
                <a:off x="2036880" y="5516280"/>
                <a:ext cx="6121440" cy="4316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utoShape 15"/>
              <p:cNvSpPr/>
              <p:nvPr/>
            </p:nvSpPr>
            <p:spPr>
              <a:xfrm>
                <a:off x="3405600" y="5229000"/>
                <a:ext cx="576000" cy="287280"/>
              </a:xfrm>
              <a:prstGeom prst="upArrow">
                <a:avLst>
                  <a:gd name="adj1" fmla="val 50000"/>
                  <a:gd name="adj2" fmla="val 5027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utoShape 16"/>
              <p:cNvSpPr/>
              <p:nvPr/>
            </p:nvSpPr>
            <p:spPr>
              <a:xfrm>
                <a:off x="6069240" y="5229000"/>
                <a:ext cx="576360" cy="287280"/>
              </a:xfrm>
              <a:prstGeom prst="upArrow">
                <a:avLst>
                  <a:gd name="adj1" fmla="val 50000"/>
                  <a:gd name="adj2" fmla="val 5027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17"/>
              <p:cNvSpPr/>
              <p:nvPr/>
            </p:nvSpPr>
            <p:spPr>
              <a:xfrm>
                <a:off x="3306960" y="5540040"/>
                <a:ext cx="3541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Tahoma"/>
                  </a:rPr>
                  <a:t>Recursos Organizaciona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18"/>
            <p:cNvGrpSpPr/>
            <p:nvPr/>
          </p:nvGrpSpPr>
          <p:grpSpPr>
            <a:xfrm>
              <a:off x="1078560" y="4176720"/>
              <a:ext cx="7017480" cy="1019160"/>
              <a:chOff x="1078560" y="4176720"/>
              <a:chExt cx="7017480" cy="1019160"/>
            </a:xfrm>
          </p:grpSpPr>
          <p:grpSp>
            <p:nvGrpSpPr>
              <p:cNvPr id="236" name="Group 19"/>
              <p:cNvGrpSpPr/>
              <p:nvPr/>
            </p:nvGrpSpPr>
            <p:grpSpPr>
              <a:xfrm>
                <a:off x="1078560" y="4197240"/>
                <a:ext cx="1037520" cy="998640"/>
                <a:chOff x="1078560" y="4197240"/>
                <a:chExt cx="1037520" cy="998640"/>
              </a:xfrm>
            </p:grpSpPr>
            <p:sp>
              <p:nvSpPr>
                <p:cNvPr id="237" name="Text Box 20"/>
                <p:cNvSpPr/>
                <p:nvPr/>
              </p:nvSpPr>
              <p:spPr>
                <a:xfrm>
                  <a:off x="1078560" y="4576680"/>
                  <a:ext cx="959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1200" spc="-1" strike="noStrike">
                      <a:solidFill>
                        <a:srgbClr val="000000"/>
                      </a:solidFill>
                      <a:latin typeface="Times New Roman"/>
                    </a:rPr>
                    <a:t>Nível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1200" spc="-1" strike="noStrike">
                      <a:solidFill>
                        <a:srgbClr val="000000"/>
                      </a:solidFill>
                      <a:latin typeface="Times New Roman"/>
                    </a:rPr>
                    <a:t>Opera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AutoShape 21"/>
                <p:cNvSpPr/>
                <p:nvPr/>
              </p:nvSpPr>
              <p:spPr>
                <a:xfrm>
                  <a:off x="1984680" y="4197240"/>
                  <a:ext cx="131400" cy="998640"/>
                </a:xfrm>
                <a:custGeom>
                  <a:avLst/>
                  <a:gdLst>
                    <a:gd name="textAreaLeft" fmla="*/ 83880 w 131400"/>
                    <a:gd name="textAreaRight" fmla="*/ 131760 w 131400"/>
                    <a:gd name="textAreaTop" fmla="*/ 25920 h 998640"/>
                    <a:gd name="textAreaBottom" fmla="*/ 972720 h 998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AutoShape 22"/>
              <p:cNvSpPr/>
              <p:nvPr/>
            </p:nvSpPr>
            <p:spPr>
              <a:xfrm rot="10800000">
                <a:off x="2093760" y="4176720"/>
                <a:ext cx="6002280" cy="1015920"/>
              </a:xfrm>
              <a:custGeom>
                <a:avLst/>
                <a:gdLst>
                  <a:gd name="textAreaLeft" fmla="*/ 892080 w 6002280"/>
                  <a:gd name="textAreaRight" fmla="*/ 5110200 w 6002280"/>
                  <a:gd name="textAreaTop" fmla="*/ 150840 h 1015920"/>
                  <a:gd name="textAreaBottom" fmla="*/ 865080 h 101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822" y="21600"/>
                    </a:lnTo>
                    <a:lnTo>
                      <a:pt x="18778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23"/>
              <p:cNvSpPr/>
              <p:nvPr/>
            </p:nvSpPr>
            <p:spPr>
              <a:xfrm>
                <a:off x="2757600" y="4508280"/>
                <a:ext cx="215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Execução de Operaçõ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24"/>
              <p:cNvSpPr/>
              <p:nvPr/>
            </p:nvSpPr>
            <p:spPr>
              <a:xfrm>
                <a:off x="5027760" y="4508280"/>
                <a:ext cx="2521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Execução de Programas e Projet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25"/>
              <p:cNvSpPr/>
              <p:nvPr/>
            </p:nvSpPr>
            <p:spPr>
              <a:xfrm flipH="1">
                <a:off x="5053320" y="4190760"/>
                <a:ext cx="22320" cy="995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26"/>
              <p:cNvSpPr/>
              <p:nvPr/>
            </p:nvSpPr>
            <p:spPr>
              <a:xfrm flipH="1">
                <a:off x="4945320" y="4638600"/>
                <a:ext cx="254160" cy="0"/>
              </a:xfrm>
              <a:prstGeom prst="line">
                <a:avLst/>
              </a:prstGeom>
              <a:ln w="31680">
                <a:solidFill>
                  <a:srgbClr val="76b2e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4" name="Group 27"/>
          <p:cNvGrpSpPr/>
          <p:nvPr/>
        </p:nvGrpSpPr>
        <p:grpSpPr>
          <a:xfrm>
            <a:off x="2206800" y="3197160"/>
            <a:ext cx="5103000" cy="1109160"/>
            <a:chOff x="2206800" y="3197160"/>
            <a:chExt cx="5103000" cy="1109160"/>
          </a:xfrm>
        </p:grpSpPr>
        <p:grpSp>
          <p:nvGrpSpPr>
            <p:cNvPr id="245" name="Group 28"/>
            <p:cNvGrpSpPr/>
            <p:nvPr/>
          </p:nvGrpSpPr>
          <p:grpSpPr>
            <a:xfrm>
              <a:off x="2206800" y="3197160"/>
              <a:ext cx="666000" cy="984240"/>
              <a:chOff x="2206800" y="3197160"/>
              <a:chExt cx="666000" cy="984240"/>
            </a:xfrm>
          </p:grpSpPr>
          <p:sp>
            <p:nvSpPr>
              <p:cNvPr id="246" name="Text Box 29"/>
              <p:cNvSpPr/>
              <p:nvPr/>
            </p:nvSpPr>
            <p:spPr>
              <a:xfrm>
                <a:off x="2206800" y="3540240"/>
                <a:ext cx="578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200" spc="-1" strike="noStrike">
                    <a:solidFill>
                      <a:srgbClr val="000000"/>
                    </a:solidFill>
                    <a:latin typeface="Times New Roman"/>
                  </a:rPr>
                  <a:t>Nív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200" spc="-1" strike="noStrike">
                    <a:solidFill>
                      <a:srgbClr val="000000"/>
                    </a:solidFill>
                    <a:latin typeface="Times New Roman"/>
                  </a:rPr>
                  <a:t>Tátic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AutoShape 30"/>
              <p:cNvSpPr/>
              <p:nvPr/>
            </p:nvSpPr>
            <p:spPr>
              <a:xfrm>
                <a:off x="2741040" y="3197160"/>
                <a:ext cx="131760" cy="9842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25560 h 984240"/>
                  <a:gd name="textAreaBottom" fmla="*/ 958680 h 98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31"/>
            <p:cNvGrpSpPr/>
            <p:nvPr/>
          </p:nvGrpSpPr>
          <p:grpSpPr>
            <a:xfrm>
              <a:off x="2872800" y="3197160"/>
              <a:ext cx="4437000" cy="1109160"/>
              <a:chOff x="2872800" y="3197160"/>
              <a:chExt cx="4437000" cy="1109160"/>
            </a:xfrm>
          </p:grpSpPr>
          <p:sp>
            <p:nvSpPr>
              <p:cNvPr id="249" name="Line 32"/>
              <p:cNvSpPr/>
              <p:nvPr/>
            </p:nvSpPr>
            <p:spPr>
              <a:xfrm flipH="1">
                <a:off x="5062320" y="3211200"/>
                <a:ext cx="14400" cy="964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Group 33"/>
              <p:cNvGrpSpPr/>
              <p:nvPr/>
            </p:nvGrpSpPr>
            <p:grpSpPr>
              <a:xfrm>
                <a:off x="2872800" y="3197160"/>
                <a:ext cx="4437000" cy="1109160"/>
                <a:chOff x="2872800" y="3197160"/>
                <a:chExt cx="4437000" cy="1109160"/>
              </a:xfrm>
            </p:grpSpPr>
            <p:grpSp>
              <p:nvGrpSpPr>
                <p:cNvPr id="251" name="Group 34"/>
                <p:cNvGrpSpPr/>
                <p:nvPr/>
              </p:nvGrpSpPr>
              <p:grpSpPr>
                <a:xfrm>
                  <a:off x="2872800" y="3197160"/>
                  <a:ext cx="4437000" cy="979200"/>
                  <a:chOff x="2872800" y="3197160"/>
                  <a:chExt cx="4437000" cy="979200"/>
                </a:xfrm>
              </p:grpSpPr>
              <p:sp>
                <p:nvSpPr>
                  <p:cNvPr id="252" name="AutoShape 35"/>
                  <p:cNvSpPr/>
                  <p:nvPr/>
                </p:nvSpPr>
                <p:spPr>
                  <a:xfrm rot="10800000">
                    <a:off x="2872800" y="3197160"/>
                    <a:ext cx="4437000" cy="979200"/>
                  </a:xfrm>
                  <a:custGeom>
                    <a:avLst/>
                    <a:gdLst>
                      <a:gd name="textAreaLeft" fmla="*/ 739440 w 4437000"/>
                      <a:gd name="textAreaRight" fmla="*/ 3697560 w 4437000"/>
                      <a:gd name="textAreaTop" fmla="*/ 163440 h 979200"/>
                      <a:gd name="textAreaBottom" fmla="*/ 815760 h 979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3609" y="21600"/>
                        </a:lnTo>
                        <a:lnTo>
                          <a:pt x="17991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Text Box 36"/>
                  <p:cNvSpPr/>
                  <p:nvPr/>
                </p:nvSpPr>
                <p:spPr>
                  <a:xfrm>
                    <a:off x="3362040" y="3357360"/>
                    <a:ext cx="165744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</a:rPr>
                      <a:t>Planejamento e Gerenciamento de Operaçõ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37"/>
                  <p:cNvSpPr/>
                  <p:nvPr/>
                </p:nvSpPr>
                <p:spPr>
                  <a:xfrm>
                    <a:off x="5133600" y="3374640"/>
                    <a:ext cx="186228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</a:rPr>
                      <a:t>Planejamento e Gerenciamento de Programas e Projeto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5" name="Line 38"/>
                <p:cNvSpPr/>
                <p:nvPr/>
              </p:nvSpPr>
              <p:spPr>
                <a:xfrm flipV="1">
                  <a:off x="4947840" y="3680640"/>
                  <a:ext cx="252720" cy="7560"/>
                </a:xfrm>
                <a:prstGeom prst="line">
                  <a:avLst/>
                </a:prstGeom>
                <a:ln w="31680">
                  <a:solidFill>
                    <a:srgbClr val="76b2e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39"/>
                <p:cNvSpPr/>
                <p:nvPr/>
              </p:nvSpPr>
              <p:spPr>
                <a:xfrm>
                  <a:off x="4106520" y="4049280"/>
                  <a:ext cx="0" cy="252000"/>
                </a:xfrm>
                <a:prstGeom prst="line">
                  <a:avLst/>
                </a:prstGeom>
                <a:ln w="31680">
                  <a:solidFill>
                    <a:srgbClr val="76b2e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40"/>
                <p:cNvSpPr/>
                <p:nvPr/>
              </p:nvSpPr>
              <p:spPr>
                <a:xfrm>
                  <a:off x="6229080" y="4054320"/>
                  <a:ext cx="0" cy="252000"/>
                </a:xfrm>
                <a:prstGeom prst="line">
                  <a:avLst/>
                </a:prstGeom>
                <a:ln w="31680">
                  <a:solidFill>
                    <a:srgbClr val="76b2e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8" name="Group 41"/>
          <p:cNvGrpSpPr/>
          <p:nvPr/>
        </p:nvGrpSpPr>
        <p:grpSpPr>
          <a:xfrm>
            <a:off x="4216320" y="1901880"/>
            <a:ext cx="1748880" cy="627120"/>
            <a:chOff x="4216320" y="1901880"/>
            <a:chExt cx="1748880" cy="627120"/>
          </a:xfrm>
        </p:grpSpPr>
        <p:grpSp>
          <p:nvGrpSpPr>
            <p:cNvPr id="259" name="Group 42"/>
            <p:cNvGrpSpPr/>
            <p:nvPr/>
          </p:nvGrpSpPr>
          <p:grpSpPr>
            <a:xfrm>
              <a:off x="4216320" y="1901880"/>
              <a:ext cx="1748880" cy="503280"/>
              <a:chOff x="4216320" y="1901880"/>
              <a:chExt cx="1748880" cy="503280"/>
            </a:xfrm>
          </p:grpSpPr>
          <p:sp>
            <p:nvSpPr>
              <p:cNvPr id="260" name="AutoShape 43"/>
              <p:cNvSpPr/>
              <p:nvPr/>
            </p:nvSpPr>
            <p:spPr>
              <a:xfrm rot="10800000">
                <a:off x="4216320" y="1901880"/>
                <a:ext cx="1748880" cy="503280"/>
              </a:xfrm>
              <a:custGeom>
                <a:avLst/>
                <a:gdLst>
                  <a:gd name="textAreaLeft" fmla="*/ 347760 w 1748880"/>
                  <a:gd name="textAreaRight" fmla="*/ 1401120 w 1748880"/>
                  <a:gd name="textAreaTop" fmla="*/ 100080 h 503280"/>
                  <a:gd name="textAreaBottom" fmla="*/ 403200 h 50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002" y="21600"/>
                    </a:lnTo>
                    <a:lnTo>
                      <a:pt x="16598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44"/>
              <p:cNvSpPr/>
              <p:nvPr/>
            </p:nvSpPr>
            <p:spPr>
              <a:xfrm>
                <a:off x="4557600" y="2028960"/>
                <a:ext cx="100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Miss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Line 45"/>
            <p:cNvSpPr/>
            <p:nvPr/>
          </p:nvSpPr>
          <p:spPr>
            <a:xfrm>
              <a:off x="5061600" y="2276640"/>
              <a:ext cx="0" cy="252360"/>
            </a:xfrm>
            <a:prstGeom prst="line">
              <a:avLst/>
            </a:prstGeom>
            <a:ln w="31680">
              <a:solidFill>
                <a:srgbClr val="76b2e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46"/>
          <p:cNvGrpSpPr/>
          <p:nvPr/>
        </p:nvGrpSpPr>
        <p:grpSpPr>
          <a:xfrm>
            <a:off x="4616280" y="1268280"/>
            <a:ext cx="944640" cy="744840"/>
            <a:chOff x="4616280" y="1268280"/>
            <a:chExt cx="944640" cy="744840"/>
          </a:xfrm>
        </p:grpSpPr>
        <p:sp>
          <p:nvSpPr>
            <p:cNvPr id="264" name="AutoShape 47"/>
            <p:cNvSpPr/>
            <p:nvPr/>
          </p:nvSpPr>
          <p:spPr>
            <a:xfrm>
              <a:off x="4616280" y="1268280"/>
              <a:ext cx="944640" cy="633600"/>
            </a:xfrm>
            <a:prstGeom prst="triangle">
              <a:avLst>
                <a:gd name="adj" fmla="val 48685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Vis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48"/>
            <p:cNvSpPr/>
            <p:nvPr/>
          </p:nvSpPr>
          <p:spPr>
            <a:xfrm>
              <a:off x="5060880" y="1760400"/>
              <a:ext cx="0" cy="252720"/>
            </a:xfrm>
            <a:prstGeom prst="line">
              <a:avLst/>
            </a:prstGeom>
            <a:ln w="31680">
              <a:solidFill>
                <a:srgbClr val="76b2e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15"/>
          <p:cNvSpPr/>
          <p:nvPr/>
        </p:nvSpPr>
        <p:spPr>
          <a:xfrm>
            <a:off x="7368120" y="6132600"/>
            <a:ext cx="2475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ahoma"/>
              </a:rPr>
              <a:t>Fonte: PMI – Project Management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Conceitos Básicos de GP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4"/>
          <p:cNvGrpSpPr/>
          <p:nvPr/>
        </p:nvGrpSpPr>
        <p:grpSpPr>
          <a:xfrm>
            <a:off x="2122560" y="2158920"/>
            <a:ext cx="5896080" cy="2973600"/>
            <a:chOff x="2122560" y="2158920"/>
            <a:chExt cx="5896080" cy="2973600"/>
          </a:xfrm>
        </p:grpSpPr>
        <p:sp>
          <p:nvSpPr>
            <p:cNvPr id="269" name="Rectangle 5"/>
            <p:cNvSpPr/>
            <p:nvPr/>
          </p:nvSpPr>
          <p:spPr>
            <a:xfrm>
              <a:off x="2311560" y="4673520"/>
              <a:ext cx="1054080" cy="4590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90d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us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"/>
            <p:cNvSpPr/>
            <p:nvPr/>
          </p:nvSpPr>
          <p:spPr>
            <a:xfrm>
              <a:off x="6369120" y="2158920"/>
              <a:ext cx="1168560" cy="4590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90d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7"/>
            <p:cNvSpPr/>
            <p:nvPr/>
          </p:nvSpPr>
          <p:spPr>
            <a:xfrm>
              <a:off x="6350040" y="4673520"/>
              <a:ext cx="1668600" cy="4590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90d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Qua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8"/>
            <p:cNvSpPr/>
            <p:nvPr/>
          </p:nvSpPr>
          <p:spPr>
            <a:xfrm>
              <a:off x="2122560" y="2158920"/>
              <a:ext cx="1293840" cy="4590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90d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scop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9"/>
            <p:cNvSpPr/>
            <p:nvPr/>
          </p:nvSpPr>
          <p:spPr>
            <a:xfrm>
              <a:off x="3438720" y="2506680"/>
              <a:ext cx="2847960" cy="243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90d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10"/>
          <p:cNvGrpSpPr/>
          <p:nvPr/>
        </p:nvGrpSpPr>
        <p:grpSpPr>
          <a:xfrm>
            <a:off x="1639800" y="1628640"/>
            <a:ext cx="6054480" cy="4189680"/>
            <a:chOff x="1639800" y="1628640"/>
            <a:chExt cx="6054480" cy="4189680"/>
          </a:xfrm>
        </p:grpSpPr>
        <p:sp>
          <p:nvSpPr>
            <p:cNvPr id="275" name="Rectangle 11"/>
            <p:cNvSpPr/>
            <p:nvPr/>
          </p:nvSpPr>
          <p:spPr>
            <a:xfrm>
              <a:off x="1639800" y="3457440"/>
              <a:ext cx="1652400" cy="4590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90d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quisi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 rot="2700000">
              <a:off x="3781800" y="2544120"/>
              <a:ext cx="2243160" cy="22510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90d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4579560" y="1628640"/>
              <a:ext cx="628920" cy="4590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90d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R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4"/>
            <p:cNvSpPr/>
            <p:nvPr/>
          </p:nvSpPr>
          <p:spPr>
            <a:xfrm>
              <a:off x="6502320" y="3443400"/>
              <a:ext cx="1191960" cy="4586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90d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Ris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5"/>
            <p:cNvSpPr/>
            <p:nvPr/>
          </p:nvSpPr>
          <p:spPr>
            <a:xfrm>
              <a:off x="3759120" y="5359320"/>
              <a:ext cx="2200320" cy="4590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90d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omunic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Rectangle 16"/>
          <p:cNvSpPr/>
          <p:nvPr/>
        </p:nvSpPr>
        <p:spPr>
          <a:xfrm>
            <a:off x="3855600" y="3468600"/>
            <a:ext cx="222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G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7325280" y="6253200"/>
            <a:ext cx="2475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Franklin Gothic Medium"/>
              </a:rPr>
              <a:t>Fonte: PMI – Project Management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Conceitos Básicos de GP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ítulo 11"/>
          <p:cNvSpPr/>
          <p:nvPr/>
        </p:nvSpPr>
        <p:spPr>
          <a:xfrm>
            <a:off x="3262320" y="17640"/>
            <a:ext cx="64818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Processo de avaliação sugerido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upo 12" descr=""/>
          <p:cNvPicPr/>
          <p:nvPr/>
        </p:nvPicPr>
        <p:blipFill>
          <a:blip r:embed="rId1"/>
          <a:stretch/>
        </p:blipFill>
        <p:spPr>
          <a:xfrm>
            <a:off x="2146320" y="3084480"/>
            <a:ext cx="1865160" cy="3127320"/>
          </a:xfrm>
          <a:prstGeom prst="rect">
            <a:avLst/>
          </a:prstGeom>
          <a:ln w="0">
            <a:noFill/>
          </a:ln>
        </p:spPr>
      </p:pic>
      <p:pic>
        <p:nvPicPr>
          <p:cNvPr id="285" name="Grupo 5" descr=""/>
          <p:cNvPicPr/>
          <p:nvPr/>
        </p:nvPicPr>
        <p:blipFill>
          <a:blip r:embed="rId2"/>
          <a:stretch/>
        </p:blipFill>
        <p:spPr>
          <a:xfrm>
            <a:off x="208080" y="3054240"/>
            <a:ext cx="1865160" cy="3133800"/>
          </a:xfrm>
          <a:prstGeom prst="rect">
            <a:avLst/>
          </a:prstGeom>
          <a:ln w="0">
            <a:noFill/>
          </a:ln>
        </p:spPr>
      </p:pic>
      <p:pic>
        <p:nvPicPr>
          <p:cNvPr id="286" name="Grupo 19" descr=""/>
          <p:cNvPicPr/>
          <p:nvPr/>
        </p:nvPicPr>
        <p:blipFill>
          <a:blip r:embed="rId3"/>
          <a:stretch/>
        </p:blipFill>
        <p:spPr>
          <a:xfrm>
            <a:off x="4084560" y="3097080"/>
            <a:ext cx="1865520" cy="3132360"/>
          </a:xfrm>
          <a:prstGeom prst="rect">
            <a:avLst/>
          </a:prstGeom>
          <a:ln w="0">
            <a:noFill/>
          </a:ln>
        </p:spPr>
      </p:pic>
      <p:pic>
        <p:nvPicPr>
          <p:cNvPr id="287" name="Grupo 27" descr=""/>
          <p:cNvPicPr/>
          <p:nvPr/>
        </p:nvPicPr>
        <p:blipFill>
          <a:blip r:embed="rId4"/>
          <a:stretch/>
        </p:blipFill>
        <p:spPr>
          <a:xfrm>
            <a:off x="7869240" y="3127320"/>
            <a:ext cx="1878120" cy="3133800"/>
          </a:xfrm>
          <a:prstGeom prst="rect">
            <a:avLst/>
          </a:prstGeom>
          <a:ln w="0">
            <a:noFill/>
          </a:ln>
        </p:spPr>
      </p:pic>
      <p:pic>
        <p:nvPicPr>
          <p:cNvPr id="288" name="Diagrama 4" descr=""/>
          <p:cNvPicPr/>
          <p:nvPr/>
        </p:nvPicPr>
        <p:blipFill>
          <a:blip r:embed="rId5"/>
          <a:stretch/>
        </p:blipFill>
        <p:spPr>
          <a:xfrm>
            <a:off x="255600" y="609480"/>
            <a:ext cx="9461520" cy="3164040"/>
          </a:xfrm>
          <a:prstGeom prst="rect">
            <a:avLst/>
          </a:prstGeom>
          <a:ln w="0">
            <a:noFill/>
          </a:ln>
        </p:spPr>
      </p:pic>
      <p:pic>
        <p:nvPicPr>
          <p:cNvPr id="289" name="Grupo 23" descr=""/>
          <p:cNvPicPr/>
          <p:nvPr/>
        </p:nvPicPr>
        <p:blipFill>
          <a:blip r:embed="rId6"/>
          <a:stretch/>
        </p:blipFill>
        <p:spPr>
          <a:xfrm>
            <a:off x="5943600" y="3114720"/>
            <a:ext cx="18651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Grupos de Categorias de Requisitos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17520" y="1122480"/>
            <a:ext cx="930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pectos Funcionais de Gerenciamento de Portfólio, Programas e Projetos (1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2) Requisitos Funcionais específicos de Gerenciamento de Programas e Projetos de Cofinanciamento (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3) Aspectos Técnicos (6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4) Requisitos do Fornec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0 requisitos aval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14400" y="903240"/>
            <a:ext cx="974088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pectos Funcionais de Gerenciamento de Portfólio, Programas 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Gestão Estratégica, Indicadores e M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Gestão de Deman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Seleção, priorização e Gestão de Portfól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Gerenciamento de Programas e Benefí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 Gerenciamento de Recursos e Capa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. Gerenciamento de Proje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7. Gerenciamento de Tempo e Taref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. Gerenciamento de Cu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9. Gerenciamento Integrado de Problemas, Riscos e Mudan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. Monitoramento, Avaliação e Contr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1. Fluxo de Trabalho (workf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. Organização, Colaboração e Comun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3. Gerenciamento de Documentos (E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4. Consultas, Relatórios, Visões e Gráf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. Metodologias, Melhores Práticas e Base d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6. Administração, Configuração e Parametr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Grupos de Categorias de Requisitos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"/>
          <p:cNvSpPr/>
          <p:nvPr/>
        </p:nvSpPr>
        <p:spPr>
          <a:xfrm>
            <a:off x="0" y="930240"/>
            <a:ext cx="97423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2) Requisitos Funcionais específicos de Gerenciamento de Programas e Projetos de Cofinanc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Aderência a Metodologias de organismos de cooperação multilateral e emprést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Registro de dados dos Programas e Projetos (específico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Gerenciamento de Aquisiçõ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Gerenciamento de Cont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 Gerenciamento de Ativos (Bens adqui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. Gerenciamento Administrativo-Financ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7. Avaliação e Monitor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. Relatórios de Planejamento, Avaliação, Controle e Prestação de Co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9. Capacidade de integração com sistemas legados governament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Grupos de Categorias de Requisitos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0" y="930240"/>
            <a:ext cx="97423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3) Aspectos 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Arquitetura técnica da solu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Aspectos de Seguranç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Confia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Desempe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 Usa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. Atualização e Porta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7. Integ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. Extensibil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9. Documentação Técnica e Fu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. Formas de Licenci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1. Política de fornecimento de código-fo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. Suporte Técnico e Garan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Grupos de Categorias de Requisitos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0" y="930240"/>
            <a:ext cx="97423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4) Requisitos do Fornec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Tempo da empresa desde a fund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Tempo do produto (de mercado / na empre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N. de empregados da área técnica no segmento da solução ofer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Base de clientes da solução ofertada (Brasil, no mundo, no setor públ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 Prêmios na solução ofer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. Presença 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7. Parceiros tecnológ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. Parceiros acadê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9. Comunidades de práticas ou grupo de usuários da sol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. Roadmap publ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Grupo de Categorias de Requisitos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344600"/>
            <a:ext cx="964872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e executar process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specção, avaliaç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geração de relatório apresentando uma lista de produtos avaliados, conform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ritérios estabelecido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s fases de iniciação e estruturação do trabalho, e que visam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entificação de software aplicativ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uportar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stão de portfólios (PROFISCO) e seus projetos (produtos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Objetivo do Projet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Lista de Fornecedores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174600" y="1028880"/>
            <a:ext cx="9433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soluções com foco em projetos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operação multilater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itech (D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Consult (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plan (S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 soluçõ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cion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 foco em Gerenciamento de Portfólio, Programas e Proje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(S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c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Builder (R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er 5 (R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soluções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drão internaciona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foco em Gerenciamento de Portfólio, Programas e Proje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sk (D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ty (D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M Microsoft (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Perfis de Avaliaçã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6"/>
          <p:cNvSpPr/>
          <p:nvPr/>
        </p:nvSpPr>
        <p:spPr>
          <a:xfrm>
            <a:off x="246240" y="1233360"/>
            <a:ext cx="917388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m de acomodar os diversos interesses dos Estados envolvidos, foram estabelecidos 5 (cinco) perfis de uso para avaliação das solu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– Perfil completo. Empresas que necessitam de uma ferramenta de Gerenciamento que permita tanto o gerenciamento de programas e projetos de cofinanciamento quando outros tipos de portfólios, programas, projetos e demandas incluíndo ainda os requisitos de gestão estratég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– Empresas que necessitam gerenciar suas iniciativas deste a estratégia, captura e gestão de demandas, gestão de portfólios, programas, projetos e recursos (humanos, bens, verbas). Não inclui projetos de cofinanci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– Portfólio, demandas, programas e projetos. Igual ao perfil (B) porém sem a parte de gestão estratég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– Programas e Projetos de Cofinanciamento. Inclui todo tratamento de programas e projetos de cofinanciamento com o registro e controle de verbas e gastos, a emissão de relatórios exigidos pelos orgãos financiadores e a devida prestação de contas. Não inclui estratégia, demandas, portfólio, gestão de recursos e capacidades e outras metodologias de G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– Estratégia e Ações. Implementa a Gestão Estratégica de forma completa incluíndo o acompanhamento e monitoramento das ações  daí decorre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Resultados – Perfil A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4" descr=""/>
          <p:cNvPicPr/>
          <p:nvPr/>
        </p:nvPicPr>
        <p:blipFill>
          <a:blip r:embed="rId1"/>
          <a:stretch/>
        </p:blipFill>
        <p:spPr>
          <a:xfrm>
            <a:off x="2003400" y="1076400"/>
            <a:ext cx="5345280" cy="525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Resultados – Perfil B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2039760" y="1101600"/>
            <a:ext cx="5308920" cy="515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Resultados – Perfil C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969920" y="1054080"/>
            <a:ext cx="5432760" cy="526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Resultados – Perfil D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893960" y="1092240"/>
            <a:ext cx="5464080" cy="5308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Resultados – Perfil E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1893960" y="1095480"/>
            <a:ext cx="5464080" cy="529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1"/>
          <p:cNvSpPr/>
          <p:nvPr/>
        </p:nvSpPr>
        <p:spPr>
          <a:xfrm>
            <a:off x="9069480" y="6572160"/>
            <a:ext cx="53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331B-A9A8-4F04-B9D0-AFBA3D8C4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Resultados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8"/>
          <p:cNvSpPr/>
          <p:nvPr/>
        </p:nvSpPr>
        <p:spPr>
          <a:xfrm>
            <a:off x="2913840" y="120492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dos dos Fornec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6" descr=""/>
          <p:cNvPicPr/>
          <p:nvPr/>
        </p:nvPicPr>
        <p:blipFill>
          <a:blip r:embed="rId1"/>
          <a:stretch/>
        </p:blipFill>
        <p:spPr>
          <a:xfrm>
            <a:off x="98280" y="1909800"/>
            <a:ext cx="97092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1"/>
          <p:cNvSpPr/>
          <p:nvPr/>
        </p:nvSpPr>
        <p:spPr>
          <a:xfrm>
            <a:off x="9069480" y="6572160"/>
            <a:ext cx="53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5A57-EDA4-45D4-9264-C4D3B2630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Resultados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8"/>
          <p:cNvSpPr/>
          <p:nvPr/>
        </p:nvSpPr>
        <p:spPr>
          <a:xfrm>
            <a:off x="3351960" y="1204920"/>
            <a:ext cx="48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ns de Contratação (sugest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346040" y="2322360"/>
          <a:ext cx="7202520" cy="2887920"/>
        </p:xfrm>
        <a:graphic>
          <a:graphicData uri="http://schemas.openxmlformats.org/drawingml/2006/table">
            <a:tbl>
              <a:tblPr/>
              <a:tblGrid>
                <a:gridCol w="3203640"/>
                <a:gridCol w="3998880"/>
              </a:tblGrid>
              <a:tr h="481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cce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cced"/>
                    </a:solidFill>
                  </a:tcPr>
                </a:tc>
              </a:tr>
              <a:tr h="480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ci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cce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ças de u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cf8"/>
                    </a:solidFill>
                  </a:tcPr>
                </a:tc>
              </a:tr>
              <a:tr h="482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inamento (por perfi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cce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6fc"/>
                    </a:solidFill>
                  </a:tcPr>
                </a:tc>
              </a:tr>
              <a:tr h="480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cce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cf8"/>
                    </a:solidFill>
                  </a:tcPr>
                </a:tc>
              </a:tr>
              <a:tr h="481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orte téc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cce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ê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6fc"/>
                    </a:solidFill>
                  </a:tcPr>
                </a:tc>
              </a:tr>
              <a:tr h="480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ção Assisti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cce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s de Serviço Téc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c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0" y="1344600"/>
            <a:ext cx="964872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o final dos trabalhos, estima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 dois mes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s Estados brasileiros deverão ter um conjunto de relatórios que ofereça um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valiação técnica de ferramenta de software que suporte a gestão de seus programas de modernização (portifólio de produtos) e seus projetos (produt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Metas e Alcance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Fases do Projet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334800" y="1009800"/>
            <a:ext cx="9136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se 1 – Inic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o de trabalh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orkshop de nivelamento conceitual sobre processo de avaliação e seleção de produto de software e sobre produto de software para a gestão de portifólios e projet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retrizes para o processo de avaliação e sele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se 2 - Estrutu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de avaliação e sele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itérios e requisitos para avali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ilha de pontuaçã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sta longa de potenciais fornecedores de produto de software para gestão de portifólio (programas) e projetos (produt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se 3 -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ilha de pontuação preenchi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sta curta de potenciais fornecedores de produto de software para gestão de portifólio (programas) e projetos (produt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se 4 - Conclu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tório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ítulo 11"/>
          <p:cNvSpPr/>
          <p:nvPr/>
        </p:nvSpPr>
        <p:spPr>
          <a:xfrm>
            <a:off x="289260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Organização do Projet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288720" y="1460520"/>
            <a:ext cx="81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e da COGEF – André Cord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enador representante COGEF – Thaner Nogu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or Contratado – José Torqu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ítulo 11"/>
          <p:cNvSpPr/>
          <p:nvPr/>
        </p:nvSpPr>
        <p:spPr>
          <a:xfrm>
            <a:off x="3178080" y="44280"/>
            <a:ext cx="67150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Reuniões do Projet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257760" y="988920"/>
            <a:ext cx="69915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/07 a 27/07 – Reunião em MS com Sr. Tha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es: MS e 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nhamento de ações e diretr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eta inicial de 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/08 a 24/08 – Oficina de trabalh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es: MS, PR, BA, MT, RS, PE, MA, SE,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velamento concei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eta de requisitos e inte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esentação de solu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5/09 a 16/09 – Aplicação de questioná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es: Fornecedores RJ, SC, 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licação de questionário com demonst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/09 – Reunião COGE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es: Representantes COG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esentação dos resultados (prelimin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ço Reservado para Número de Slide 1"/>
          <p:cNvSpPr/>
          <p:nvPr/>
        </p:nvSpPr>
        <p:spPr>
          <a:xfrm>
            <a:off x="9069480" y="6572160"/>
            <a:ext cx="53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C1B2-72E0-4434-BDC3-A51368DCE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ixaDeTexto 3"/>
          <p:cNvSpPr/>
          <p:nvPr/>
        </p:nvSpPr>
        <p:spPr>
          <a:xfrm>
            <a:off x="219240" y="1163520"/>
            <a:ext cx="938844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normas internacionais aplicadas à qualidade do produto de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ítulo 11"/>
          <p:cNvSpPr/>
          <p:nvPr/>
        </p:nvSpPr>
        <p:spPr>
          <a:xfrm>
            <a:off x="2511360" y="17640"/>
            <a:ext cx="723276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Normas técnicas de apoio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Retângulo de cantos arredondados 12"/>
          <p:cNvGrpSpPr/>
          <p:nvPr/>
        </p:nvGrpSpPr>
        <p:grpSpPr>
          <a:xfrm>
            <a:off x="384120" y="2048040"/>
            <a:ext cx="9101160" cy="4572000"/>
            <a:chOff x="384120" y="2048040"/>
            <a:chExt cx="9101160" cy="4572000"/>
          </a:xfrm>
        </p:grpSpPr>
        <p:pic>
          <p:nvPicPr>
            <p:cNvPr id="104" name="Retângulo de cantos arredondados 12" descr=""/>
            <p:cNvPicPr/>
            <p:nvPr/>
          </p:nvPicPr>
          <p:blipFill>
            <a:blip r:embed="rId1"/>
            <a:stretch/>
          </p:blipFill>
          <p:spPr>
            <a:xfrm>
              <a:off x="384120" y="2048040"/>
              <a:ext cx="910116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54120" y="2292480"/>
              <a:ext cx="8558280" cy="40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730080" indent="-272880">
                <a:lnSpc>
                  <a:spcPct val="100000"/>
                </a:lnSpc>
                <a:spcBef>
                  <a:spcPts val="601"/>
                </a:spcBef>
                <a:spcAft>
                  <a:spcPts val="1199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Norma ISO/IEC 9126 (NBR 1359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87280" indent="-272880">
                <a:lnSpc>
                  <a:spcPct val="100000"/>
                </a:lnSpc>
                <a:spcBef>
                  <a:spcPts val="601"/>
                </a:spcBef>
                <a:spcAft>
                  <a:spcPts val="1199"/>
                </a:spcAft>
                <a:buClr>
                  <a:srgbClr val="ffffff"/>
                </a:buClr>
                <a:buFont typeface="Courier New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Define as características de qualidade de software que devem estar presentes em todos os produ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30080" indent="-272880">
                <a:lnSpc>
                  <a:spcPct val="100000"/>
                </a:lnSpc>
                <a:spcBef>
                  <a:spcPts val="601"/>
                </a:spcBef>
                <a:spcAft>
                  <a:spcPts val="1199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Norma ISO/IEC 121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87280" indent="-272880">
                <a:lnSpc>
                  <a:spcPct val="100000"/>
                </a:lnSpc>
                <a:spcBef>
                  <a:spcPts val="601"/>
                </a:spcBef>
                <a:spcAft>
                  <a:spcPts val="1199"/>
                </a:spcAft>
                <a:buClr>
                  <a:srgbClr val="ffffff"/>
                </a:buClr>
                <a:buFont typeface="Courier New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Estabelece os requisitos de qualidade para pacotes de software e instruções para teste, considerando-se esses 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30080" indent="-272880">
                <a:lnSpc>
                  <a:spcPct val="100000"/>
                </a:lnSpc>
                <a:spcBef>
                  <a:spcPts val="601"/>
                </a:spcBef>
                <a:spcAft>
                  <a:spcPts val="1199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Norma ISO/IEC 14598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87280" indent="-272880">
                <a:lnSpc>
                  <a:spcPct val="100000"/>
                </a:lnSpc>
                <a:spcBef>
                  <a:spcPts val="601"/>
                </a:spcBef>
                <a:spcAft>
                  <a:spcPts val="1199"/>
                </a:spcAft>
                <a:buClr>
                  <a:srgbClr val="ffffff"/>
                </a:buClr>
                <a:buFont typeface="Courier New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Define um processo de avaliação da qualidade de produto 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ço Reservado para Número de Slide 1"/>
          <p:cNvSpPr/>
          <p:nvPr/>
        </p:nvSpPr>
        <p:spPr>
          <a:xfrm>
            <a:off x="9069480" y="6545160"/>
            <a:ext cx="53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DE1A-94BC-4E7B-B66D-903286617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ítulo 11"/>
          <p:cNvSpPr/>
          <p:nvPr/>
        </p:nvSpPr>
        <p:spPr>
          <a:xfrm>
            <a:off x="3151080" y="85680"/>
            <a:ext cx="65930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Características de um bom S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Retângulo de cantos arredondados 11"/>
          <p:cNvGrpSpPr/>
          <p:nvPr/>
        </p:nvGrpSpPr>
        <p:grpSpPr>
          <a:xfrm>
            <a:off x="5730840" y="4913280"/>
            <a:ext cx="3681360" cy="1584360"/>
            <a:chOff x="5730840" y="4913280"/>
            <a:chExt cx="3681360" cy="1584360"/>
          </a:xfrm>
        </p:grpSpPr>
        <p:pic>
          <p:nvPicPr>
            <p:cNvPr id="109" name="Retângulo de cantos arredondados 11" descr=""/>
            <p:cNvPicPr/>
            <p:nvPr/>
          </p:nvPicPr>
          <p:blipFill>
            <a:blip r:embed="rId1"/>
            <a:stretch/>
          </p:blipFill>
          <p:spPr>
            <a:xfrm>
              <a:off x="5730840" y="4913280"/>
              <a:ext cx="3681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854680" y="5016600"/>
              <a:ext cx="3429000" cy="13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Permite integrações com outras fontes de informaçã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(evita dupla entrada de dad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Retângulo de cantos arredondados 12"/>
          <p:cNvGrpSpPr/>
          <p:nvPr/>
        </p:nvGrpSpPr>
        <p:grpSpPr>
          <a:xfrm>
            <a:off x="5840280" y="1347840"/>
            <a:ext cx="3681720" cy="1584360"/>
            <a:chOff x="5840280" y="1347840"/>
            <a:chExt cx="3681720" cy="1584360"/>
          </a:xfrm>
        </p:grpSpPr>
        <p:pic>
          <p:nvPicPr>
            <p:cNvPr id="112" name="Retângulo de cantos arredondados 12" descr=""/>
            <p:cNvPicPr/>
            <p:nvPr/>
          </p:nvPicPr>
          <p:blipFill>
            <a:blip r:embed="rId2"/>
            <a:stretch/>
          </p:blipFill>
          <p:spPr>
            <a:xfrm>
              <a:off x="5840280" y="1347840"/>
              <a:ext cx="36817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965920" y="1452600"/>
              <a:ext cx="3429000" cy="13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Fácil de usa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(interface amigáve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etângulo de cantos arredondados 14"/>
          <p:cNvGrpSpPr/>
          <p:nvPr/>
        </p:nvGrpSpPr>
        <p:grpSpPr>
          <a:xfrm>
            <a:off x="493560" y="1347840"/>
            <a:ext cx="3681720" cy="1584360"/>
            <a:chOff x="493560" y="1347840"/>
            <a:chExt cx="3681720" cy="1584360"/>
          </a:xfrm>
        </p:grpSpPr>
        <p:pic>
          <p:nvPicPr>
            <p:cNvPr id="115" name="Retângulo de cantos arredondados 14" descr=""/>
            <p:cNvPicPr/>
            <p:nvPr/>
          </p:nvPicPr>
          <p:blipFill>
            <a:blip r:embed="rId3"/>
            <a:stretch/>
          </p:blipFill>
          <p:spPr>
            <a:xfrm>
              <a:off x="493560" y="1347840"/>
              <a:ext cx="36817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19200" y="1452600"/>
              <a:ext cx="3430440" cy="13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Funciona corretam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(informações certas, precisas e a temp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etângulo de cantos arredondados 15"/>
          <p:cNvGrpSpPr/>
          <p:nvPr/>
        </p:nvGrpSpPr>
        <p:grpSpPr>
          <a:xfrm>
            <a:off x="3097080" y="3108240"/>
            <a:ext cx="3681720" cy="1586160"/>
            <a:chOff x="3097080" y="3108240"/>
            <a:chExt cx="3681720" cy="1586160"/>
          </a:xfrm>
        </p:grpSpPr>
        <p:pic>
          <p:nvPicPr>
            <p:cNvPr id="118" name="Retângulo de cantos arredondados 15" descr=""/>
            <p:cNvPicPr/>
            <p:nvPr/>
          </p:nvPicPr>
          <p:blipFill>
            <a:blip r:embed="rId4"/>
            <a:stretch/>
          </p:blipFill>
          <p:spPr>
            <a:xfrm>
              <a:off x="3097080" y="3108240"/>
              <a:ext cx="368172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224160" y="3211560"/>
              <a:ext cx="342900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Fácil de manter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(evolução funcional e tecnológic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Retângulo de cantos arredondados 16"/>
          <p:cNvGrpSpPr/>
          <p:nvPr/>
        </p:nvGrpSpPr>
        <p:grpSpPr>
          <a:xfrm>
            <a:off x="596880" y="4913280"/>
            <a:ext cx="3689280" cy="1584360"/>
            <a:chOff x="596880" y="4913280"/>
            <a:chExt cx="3689280" cy="1584360"/>
          </a:xfrm>
        </p:grpSpPr>
        <p:pic>
          <p:nvPicPr>
            <p:cNvPr id="121" name="Retângulo de cantos arredondados 16" descr=""/>
            <p:cNvPicPr/>
            <p:nvPr/>
          </p:nvPicPr>
          <p:blipFill>
            <a:blip r:embed="rId5"/>
            <a:stretch/>
          </p:blipFill>
          <p:spPr>
            <a:xfrm>
              <a:off x="596880" y="4913280"/>
              <a:ext cx="36892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27200" y="5016600"/>
              <a:ext cx="3430440" cy="13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Mantém integridade das informações em caso de falh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(confiabilidad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ço Reservado para Número de Slide 1"/>
          <p:cNvSpPr/>
          <p:nvPr/>
        </p:nvSpPr>
        <p:spPr>
          <a:xfrm>
            <a:off x="9069480" y="6572160"/>
            <a:ext cx="53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8357-0E64-40CB-8AB1-2EFBCA0FB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ítulo 11"/>
          <p:cNvSpPr/>
          <p:nvPr/>
        </p:nvSpPr>
        <p:spPr>
          <a:xfrm>
            <a:off x="2511360" y="17640"/>
            <a:ext cx="723276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95959"/>
                </a:solidFill>
                <a:latin typeface="Arial"/>
              </a:rPr>
              <a:t>ISO/IEC 9126 (NBR 13596) 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Diagrama 5" descr=""/>
          <p:cNvPicPr/>
          <p:nvPr/>
        </p:nvPicPr>
        <p:blipFill>
          <a:blip r:embed="rId1"/>
          <a:stretch/>
        </p:blipFill>
        <p:spPr>
          <a:xfrm>
            <a:off x="285840" y="1189080"/>
            <a:ext cx="91026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22:30:08Z</dcterms:created>
  <dc:creator>Carlos Lima</dc:creator>
  <dc:description/>
  <dc:language>en-US</dc:language>
  <cp:lastModifiedBy>Ferrari</cp:lastModifiedBy>
  <cp:lastPrinted>2008-06-08T20:48:10Z</cp:lastPrinted>
  <dcterms:modified xsi:type="dcterms:W3CDTF">2011-10-05T21:57:50Z</dcterms:modified>
  <cp:revision>206</cp:revision>
  <dc:subject/>
  <dc:title>Slide 0</dc:title>
</cp:coreProperties>
</file>